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D22-0904-447A-ACE6-296753B8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0EC-F308-4B2D-91B2-89E4B828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E9E-5674-4A79-8794-1310C07E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CF1-05ED-4AC8-9C77-6C272C26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109-D5B5-4241-92AA-1005719B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A8C-FB54-4A28-935C-F5D278AC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543-05C7-4C93-A10A-22F6D6A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087-B8D1-4AE6-9E3D-E6635E2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239-7748-4273-8E44-DA9A75A1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512-E5CD-45D4-9884-1D019206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0BA-8378-442E-A120-38B4408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74C-5811-4C34-9F8E-54BFB0D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BA5-4A93-4999-A556-F973368A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 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9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le examina a los paci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 verbs SER &amp; ESTAR mean the same thing in English “to be”. What is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46:28Z</dcterms:created>
  <dc:creator>Helen Zumaeta</dc:creator>
  <dc:description/>
  <dc:language>en-US</dc:language>
  <cp:lastModifiedBy>Helen Zumaeta</cp:lastModifiedBy>
  <dcterms:modified xsi:type="dcterms:W3CDTF">2013-05-29T16:50:30Z</dcterms:modified>
  <cp:revision>18</cp:revision>
  <dc:subject/>
  <dc:title>Me llamo ________ Clase 7IM La fecha es el 27 de mayo del 2011</dc:title>
</cp:coreProperties>
</file>